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AD6E-CFC8-4ABA-A5F6-0BC47D5B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D47-8416-4B65-B18E-0EF508137F8E}" type="slidenum">
              <a:rPr b="0" lang="en-US" sz="1200" spc="-1" strike="noStrike">
                <a:solidFill>
                  <a:srgbClr val="000000"/>
                </a:solidFill>
                <a:latin typeface="American Typewriter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B63-7265-4DB2-9377-6D42A52472AF}" type="slidenum">
              <a:rPr b="0" lang="en-US" sz="1200" spc="-1" strike="noStrike">
                <a:solidFill>
                  <a:srgbClr val="000000"/>
                </a:solidFill>
                <a:latin typeface="American Typewriter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771-9AEF-4D88-94DF-E442D5F0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FDFC-0211-430C-9EDB-1E1634A6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1B6-CB97-404F-A765-811519BF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156-C17B-4199-A3CF-5193F073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878B-76B6-430F-BF20-67E5699E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E4D-9E10-4AF3-8E96-0702A59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9206-56BD-4728-9093-2DF649A8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7A4-5F8B-4BDC-9B13-16CC1D6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361B-CF66-4AD8-97F6-3940BE5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0067-B842-446A-9902-FD5F008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10E-848D-43B8-B50A-8BA5FC0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3D0-B4EC-4A2A-8B6D-8F5437E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49D1-CE8E-411E-901A-A663AF3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C853-B8C3-4E23-8721-0BD28DC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70AC-835A-44CA-9C48-3963D32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20D3-DCE2-42F8-900C-79A0722E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EAC-25C9-4BA1-9CF5-3CFEC237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E705-9991-4DD6-8A23-C26E871B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7ED6-A212-4396-9B91-888B3BE8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386C-88ED-4E96-B764-AB5541A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E888C-6A2D-43A7-A9F1-C94B3722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411B8-3591-4F1D-B432-72A4DCE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BAD-DE9F-4AA2-BC94-875F1DBB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1820-0010-4C95-BD58-44D6B32D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1F1D-5529-499E-8E8B-BFE1983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AE906-EF77-4678-8698-607E798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95D4-466D-41E5-B81E-3B4A8D5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06CF-D951-4171-8FAF-1EB8184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10F2-CAFA-42EA-BBF7-EA402B5D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A3C6-D148-4718-B8CD-36A1239D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F2491-15B2-401F-9F73-F5EDD97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9642-4F69-4670-A2D5-050ADACC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9D07-E0D2-4B16-ADD9-9B3B73E7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128-B801-4FE0-85D1-4DA30DBB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4832-11F3-4B8A-8A7A-D419D8F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563A5-614F-4B1C-BAA4-33B9EFF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BBA0D-565B-4D57-A6CF-ABDA3268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F4FB-9C93-4E33-BF04-A6891E7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9A04-01F6-4AE5-8035-7F147E2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7AF6-9B04-4BB0-BABD-DE968B05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7471-F40C-4020-BB04-BA154784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43A1A-0A4F-43CB-BC44-5AABFE5F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8566-AC93-4704-AA10-C10AAFB9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6E76-326A-4166-BB20-7C90226D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AC0-686B-4B28-BA85-90EF510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A9CC-52C7-4BD2-A406-8A0BDCA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E1E1A-27EF-4DFB-B1E6-140B4BE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3BBC-96BD-4EE8-85EF-F90E90D0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079F-4DA2-4FBA-86EB-A119899A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6F423-20DD-416F-9C52-1AEDB646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64D3D-92B9-4F3C-9A63-C84C9EF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7EB5-807B-4CDA-9876-DF37B56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8B36-3239-4E55-BD71-11D1D77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5B66-4AFB-40C5-AA19-7764CF2B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6A559-ABCE-4A83-B367-782E409E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225-38A9-4B9B-97FD-53782EF7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7019-F481-4CE5-ACC2-5E563A2B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5321-782A-443A-9FDA-00E58B3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87E1-ACAF-450F-8B87-9A5820E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9F8D4-8437-4CB4-B2A7-CA0D6C0C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9EF6A-BDD3-452B-9D94-D583528B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CA07-5E85-4D1C-9B9B-A5788755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22F34-363F-445A-871E-61E4B1DF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D2884-1259-4F97-B76C-CCB06CB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90CF-81FE-4AE2-8DEA-16D9BD0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ED1B-35F7-4FCF-AD54-EB6D142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8297-4003-4E0C-8791-0521E9D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8E1A-1779-4552-9718-7C4D021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A505-D743-471B-BD5B-61290853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FE6C-2631-4088-B4B4-27990F24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1EC75-E6FE-43D1-A4E6-45424F4C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CC919-3E85-4F09-91A7-52EB130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39C73-4D74-4827-AA8D-43A4DA09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29A3E-55F8-4744-A055-2F44BB2D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A2486-2D9E-4B7F-A39A-02DB9489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10079-9CCF-4B94-971E-95FB11B0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866F-2918-4931-B107-D51F670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6BF-27F9-4040-BB2C-77ED834D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21B46-72A3-4137-BEE4-7015794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30D2-9F6C-4132-ADD9-9776C38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0734-F426-4223-A5CC-C71E2C65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CDDF-641A-4F39-8C84-23F36CDA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E44AA-77FB-43D7-A436-6E52ACB6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1EF6-9053-4CD7-97E6-3F94CE04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7ADC-1ED0-48B6-990F-7447BE3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6D694-CB65-48D3-A256-B23C4E5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1F7A3-8692-4F6A-9803-D5EDE162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CD47-A9EC-497B-AFCB-2D2AA7FB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FD5-83F4-44CC-9C4E-33613E2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8944-EB82-479F-8CB6-8E89E96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6A8D0-219F-4554-8B16-565F7C9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D1F92-1151-4BAE-8BD4-0CBFB49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F5EDF-1D97-486E-AFB2-386EB053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B25F-FC2F-4DBF-9AE0-8157425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870AB-64B0-4983-BAC4-91A5779B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9AEB-7E32-4439-AF54-3F2590D1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5E2F-7A50-4310-8FAF-08CF86526C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merican Typewriter Condensed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E1A-851D-44C7-95C4-770A64D1F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1FE1-022C-4300-B3D9-239CCC6762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2A0C-9703-455A-9E36-CB347995A4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1BE1-F8FC-4FD4-9741-F6AD5FAD19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9599-BD71-4F80-A088-5A5B9675FF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768-943C-49B6-BCA1-542BF14A8D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merican Typewriter Condensed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 Condense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950-F921-4EC9-A453-392A7C7B34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anchises.about.com/od/pizza/fr/pizza-hut.htm" TargetMode="External"/><Relationship Id="rId2" Type="http://schemas.openxmlformats.org/officeDocument/2006/relationships/hyperlink" Target="http://franchises.about.com/od/pizza/fr/pizza-hut.htm" TargetMode="External"/><Relationship Id="rId3" Type="http://schemas.openxmlformats.org/officeDocument/2006/relationships/hyperlink" Target="http://www.entrepreneur.com/franchises/pizzahutinc/282696-0.html" TargetMode="External"/><Relationship Id="rId4" Type="http://schemas.openxmlformats.org/officeDocument/2006/relationships/hyperlink" Target="http://www.entrepreneur.com/franchises/pizzahutinc/282696-0.html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8083440" cy="14637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American Typewriter Condensed"/>
              </a:rPr>
              <a:t>By Taylor Jones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4" descr="C:\Users\student\Desktop\images.jpg"/>
          <p:cNvPicPr/>
          <p:nvPr/>
        </p:nvPicPr>
        <p:blipFill>
          <a:blip r:embed="rId2"/>
          <a:stretch/>
        </p:blipFill>
        <p:spPr>
          <a:xfrm>
            <a:off x="0" y="14400"/>
            <a:ext cx="27828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Idea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Dan &amp; Frank Careny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Wichita Kansa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600$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Down town Wichita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9080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Equipment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Pizza Hut?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 Condensed"/>
              </a:rPr>
              <a:t>Popularity?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zza, Pasta wing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Over 50 year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ntinuous growth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Owned by yum! Brands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fits$700,000 to $800,000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140,000+ Employees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13,596 Franchises.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5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C:\Users\student\Desktop\images.jpg"/>
          <p:cNvPicPr/>
          <p:nvPr/>
        </p:nvPicPr>
        <p:blipFill>
          <a:blip r:embed="rId2"/>
          <a:stretch/>
        </p:blipFill>
        <p:spPr>
          <a:xfrm>
            <a:off x="3352680" y="3552840"/>
            <a:ext cx="56390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6840" y="4190760"/>
            <a:ext cx="8001000" cy="19810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A’s program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undraising Opport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undraiser Nigh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zheimer's Associ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pportunity Builders, In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ok It!® Progra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600" y="1295280"/>
            <a:ext cx="8610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trong belief in multi-br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Aligned set of cultural value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Entrepreneurial spirit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Management capabilitie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Passion for delivering great customer service  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Developing peopl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Broad business experience (hospitality an advantage)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Grow your Capital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st have at least $360,000 in liquid asset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eam builder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uild peoples capability'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ssion for operation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Hands on busines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e committe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184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41148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 Recogni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ustomer Attrac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mpetitive Advanta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ranchise Value System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Multi- unit Growth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conomic Stabil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s that Give Back to the Commun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647960" y="1481040"/>
            <a:ext cx="41907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Brands that Give Back to the Community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Development Expertis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ccess to Financ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olid Business Suppor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Quality On-boarding &amp; Training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liable Supply Cha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turn on Investm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franchises.about.com/od/pizza/fr/pizza-hut.htm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www.entrepreneur.com/franchises/pizzahutinc/282696-0.htm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en.wikipedia.org/wiki/Pizza_Hu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www.franchisedirect.com/foodfranchises/pizza-hut-franchise-07054/ufoc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http://www.franchising.com/pizzahut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1" name="Title 3" descr=""/>
          <p:cNvPicPr/>
          <p:nvPr/>
        </p:nvPicPr>
        <p:blipFill>
          <a:blip r:embed="rId5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7:27:05Z</dcterms:created>
  <dc:creator>cysd</dc:creator>
  <dc:description/>
  <dc:language>en-US</dc:language>
  <cp:lastModifiedBy>student</cp:lastModifiedBy>
  <dcterms:modified xsi:type="dcterms:W3CDTF">2012-09-28T16:20:59Z</dcterms:modified>
  <cp:revision>15</cp:revision>
  <dc:subject/>
  <dc:title>Pizza Hut franchise</dc:title>
</cp:coreProperties>
</file>